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6653D-957D-4C5A-9B98-251880AF099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4B917-2336-4215-B722-B45A0EBB098A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B34-5E1A-4DB4-ADC5-7A1D8F7A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90E-1288-48C9-9098-F21E5295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A2F-8B1A-492E-8843-EB1C6CD5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119-C7F6-4B23-999A-7C31B6F1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82EE-A424-46A1-B43D-B9A8D72F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9947-FA85-4A35-8AF0-E433C627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DE22-631B-4485-B312-FF70DE5E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303D-1176-4AEC-82CD-ED319C38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27C5-6F79-4753-9858-EBD323C7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E6EA-0625-4444-9B8B-13347405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BA1D-C2E3-4412-AE7B-66C0D5AB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029-4CF9-4C07-804C-DD140B22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B11B-9CB9-4850-B457-C99BC22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F8DC-C5D4-4B68-99EC-AD4C385E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7E80-71CA-4231-84EA-10F2E6F4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C1C4-6DCA-4EE9-93DD-5F468EB4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05C9-CCF6-4FC8-B42A-880E75D5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6309-FBFB-4255-AA8D-CACBAB43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9B34-FE72-43BD-BE07-F15729DF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0BBAC-953A-4542-8813-33772212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EA0C-B97D-4CA0-837B-9B76ECCD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7355-9B52-4CE0-87EE-2222C00D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BDE-AA47-4F31-A27B-C833644D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0E17-F737-4DE0-B546-BD126DD8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7C2B-71BF-4E10-9FD4-C4FB0F74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6E91-7064-4C6D-8C05-9EBB046C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F7F9-AB4B-4546-B7E0-F58CD3FA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D7716-3B71-435C-90ED-D3EE9C25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A371-FB0D-4D43-9527-97F1AE20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7F97-60E1-4D00-9502-ACA8FACC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10425-9489-4876-A5C4-9F09E045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DD4AF-1DF3-485F-9493-7D0C092A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A3F22-8EF2-4F50-B7FC-3045DAA1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4A3-FF8F-4AAD-8377-0C038002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690C9-7BC8-4A90-BF03-63FA0663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66CA6-9DC8-4C8A-97DE-020226D5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A9A83-D789-4C5B-B7A0-BF4AD347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5B28E-36D9-4C4C-8C5E-D503606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A8EE-5DB6-4114-9896-F999B10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2AF5-E119-4C3B-9B90-FF9895A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D9E0-EE82-4BBA-AE4F-3AF9F908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E6D5-0D88-4F29-A343-992B553B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B943A-E3C9-4179-9290-34B9ADDA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85396-A027-4F01-AA09-2EFF5585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CEC-8715-4699-A77B-23E8BD55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99512-02B3-4A42-B745-570A221E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BF1FB-9B94-4107-86A3-B3CABC33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60C32-4EEE-44C8-A4A8-F0A113DB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3015E-5136-404B-8C88-9C518BDC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B860C-0625-430F-B33E-94564365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B8882-C873-416B-A0C4-B0BD4A3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2DDA4-54DA-4A38-B8C1-14E0EF82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72B0E-28C1-4BFA-BAB5-AEDD7AA1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E030E-DB91-48E4-8E3D-A7E4BE4C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8CDA-6D7F-4A5F-A64D-E998492D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3DB-31BE-4BE3-BD1C-6F7D5E95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742E3-A504-49E5-9850-48905A19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C3692-EA88-498A-BF91-C6928FE4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7D35B-744F-4AD2-82E0-774F55D0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94EDF-7F89-4A43-82E1-E2486739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B9B84-6246-46DF-9C37-E70F14F7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6B069-6AD9-4532-AE37-00B19044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E0BA8-77BF-40E7-A44B-CB48C3BE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31452-7906-4AD4-B7EE-26F113ED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E7E66-40FA-4D36-A706-01564F22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2E536-A0CF-40B1-B2CB-B26B6D6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A39-ACF1-4AA6-8575-FB75543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04EB5-81B4-4C36-AAEC-00DAA8D4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8EF66-2ACB-4956-B709-9A1E78D7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2D42C-9664-48BE-B296-FD12DC12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33554-16C5-42E5-AF41-89AAAA7D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99DEF-26D2-4391-BD45-40EBC8DE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EB6B6-DA62-4BB6-A232-45228B4B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BAA4-CB60-43EA-BA76-3CF46284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93CAE-E3EA-4021-B9DA-1D92050A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CAA86-3C78-4782-8AF4-50744E69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76214-8D99-4DDB-B2A0-F5222D7E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034-F621-45DA-B210-5D904484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E30D8-35B6-49AD-8084-5C3D5CE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106DE-0970-4D4D-90D4-9C41A494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BBA7B-CE8E-43D2-8E7A-D79E6169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E8E3E-421C-415E-94B6-2A20FC62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BD1EA-664F-4719-A61F-1570D224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EC8-7258-4310-AE20-F3215606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28925-7EF3-4E54-94F3-FC9AA08F96E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10FD0-1EE3-443F-AE04-4FB0DFB91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3E8AA-34A5-4C70-9DC6-AA8979B6D05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42ACD-E44A-44D2-AB7A-4D115B1E703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2183E-3517-4E56-A6AE-25854313BA6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BF7F7-8EE6-4AAB-9D9D-0976DD693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27A11-5187-41B7-8974-656B367D1C1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B60F3-D1BC-4353-9AE6-92CFB41977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E846B-E575-49CC-910F-793FD5F7298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62B6D-2022-44B8-BF0D-943BD3C66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7CC4A-99D8-41E7-9379-321B4D8D2264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911CB-12A6-4F1D-A39A-F2A57644CBB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710DB-AD47-4CD1-80F2-5F99075C458B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B22AD-0432-4EF6-BE3A-586E07F81E2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highered.mcgraw-hill.com/olc/dl/120076/micro04.swf" TargetMode="External"/><Relationship Id="rId3" Type="http://schemas.openxmlformats.org/officeDocument/2006/relationships/hyperlink" Target="http://highered.mcgraw-hill.com/olc/dl/120076/bio23.swf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youtube.com/watch?v=dIZpb93NYlw" TargetMode="External"/><Relationship Id="rId3" Type="http://schemas.openxmlformats.org/officeDocument/2006/relationships/hyperlink" Target="http://www.explorelearning.com/index.cfm?method=cResource.dspDetail&amp;ResourceID=439" TargetMode="Externa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wiley.com/college/pratt/0471393878/student/animations/dna_replication/index.html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dnai.org/timeline/index.html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ZGHkHMoyC5I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olc/dl/120076/bio22.swf" TargetMode="External"/><Relationship Id="rId2" Type="http://schemas.openxmlformats.org/officeDocument/2006/relationships/hyperlink" Target="http://www.sumanasinc.com/webcontent/animations/content/meselson.html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3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4236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Title 3" descr=""/>
          <p:cNvPicPr/>
          <p:nvPr/>
        </p:nvPicPr>
        <p:blipFill>
          <a:blip r:embed="rId2"/>
          <a:stretch/>
        </p:blipFill>
        <p:spPr>
          <a:xfrm>
            <a:off x="689040" y="2389320"/>
            <a:ext cx="8229600" cy="1487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3"/>
          <a:stretch/>
        </p:blipFill>
        <p:spPr>
          <a:xfrm rot="2214000">
            <a:off x="1258560" y="3200040"/>
            <a:ext cx="36320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Key Enzymes: DNA Helicase, Single Stranded Binding Proteins (SSBs), DNA Gyr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Replication Fork vs. Replication Bub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2"/>
          <a:stretch/>
        </p:blipFill>
        <p:spPr>
          <a:xfrm>
            <a:off x="546120" y="3800520"/>
            <a:ext cx="3510000" cy="2930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3"/>
          <a:stretch/>
        </p:blipFill>
        <p:spPr>
          <a:xfrm>
            <a:off x="4538520" y="3843360"/>
            <a:ext cx="425952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453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Key Enzymes: DNA Polymerase I and III, Primase, DNA Ligas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Key Terms: RNA Primers, Leading and Lagging Strands, Okazaki Fragm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911160" y="3067200"/>
            <a:ext cx="7220160" cy="36846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5"/>
          <p:cNvSpPr/>
          <p:nvPr/>
        </p:nvSpPr>
        <p:spPr>
          <a:xfrm>
            <a:off x="942840" y="3078000"/>
            <a:ext cx="4797720" cy="68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5740560" y="3078000"/>
            <a:ext cx="1144440" cy="34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38744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Synthesis of Lagging Stran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1395360" y="1884240"/>
            <a:ext cx="63500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322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Key Enzymes: DNA polymerase I and III act as exonuc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2681280" y="2316240"/>
            <a:ext cx="35323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The students will be shown animati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highered.mcgraw-hill.com/olc/dl/120076/micro04.swf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http://highered.mcgraw-hill.com/olc/dl/120076/bio23.swf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Whole-Class Replication Role-Pla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entury Gothic"/>
              </a:rPr>
              <a:t>Each student acts as a nucleotide. Hands are used to form bonds. (Explained fully in summary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1) Visual: Students will make a sketch or diagram of the process of DNA replication. (K/I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2) Musical: Students will listen to the DNA replication song and write another verse for the song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youtube.com/watch?v=dIZpb93NYlw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3) Kinesthetic: Students will design an explanation for DNA replication using body/hand actions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4) Linguistic: Students will imagine being a DNA molecule and write a story explaining how they are copied. (K/I/C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5) Intrapersonal: Students will write explaining what they found to be fascinating about DNA replication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6) Interpersonal: Students will explain their understanding of DNA replication to their partners. (K/I/C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7) Logical: Students will perform the DNA replication gizmo at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http://www.explorelearning.com/index.cfm?method=cResource.dspDetail&amp;ResourceID=439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Students will be given a copy of the ‘Student Exploration Sheet’ found on the website. (K/I/C/A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Summative Assessment will take place at the end of the genetics unit in the form of a Unit Tes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4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759440" cy="14018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4520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find it difficult to understand the procedure and conclusions of the Meselson and Stahl experimen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Explain each step in detail using illustrations and drawing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have a difficult time visualizing the concept of DNA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Show the animations multiple time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have difficulty keeping track of all the enzymes involved in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Create a word wall with all the important term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students may get confused about the lagging strand replication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425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Emphasize that DNA strands are antiparallel and DNA polymerase III synthesizes only in the 5’ to 3’ direction.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Century Gothic"/>
              </a:rPr>
              <a:t>The following tutorial can be used to reiterate concepts:</a:t>
            </a:r>
            <a:br>
              <a:rPr sz="1900"/>
            </a:br>
            <a:r>
              <a:rPr b="0" lang="en-CA" sz="19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wiley.com/college/pratt/0471393878/student/animations/dna_replication/index.htm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89000" y="255600"/>
            <a:ext cx="7424640" cy="939960"/>
          </a:xfrm>
          <a:prstGeom prst="rect">
            <a:avLst/>
          </a:prstGeom>
          <a:ln w="0">
            <a:noFill/>
          </a:ln>
        </p:spPr>
      </p:pic>
      <p:pic>
        <p:nvPicPr>
          <p:cNvPr id="358" name="Subtitle 2" descr=""/>
          <p:cNvPicPr/>
          <p:nvPr/>
        </p:nvPicPr>
        <p:blipFill>
          <a:blip r:embed="rId2"/>
          <a:stretch/>
        </p:blipFill>
        <p:spPr>
          <a:xfrm>
            <a:off x="49320" y="1255680"/>
            <a:ext cx="83628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Model building, role play and animations will help the entire class including ELL and special needs students to visualize the abstract structure of DN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Posting a word wall with the new vocabulary related to DNA structure and replication process will help the ELLs and special need students in writing task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Extra attention and time will be given to ELLs and special needs students during classroom discussions and in computer lab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Peer assistant will be encouraged in the classroom assignments by heterogeneous grouping of students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itle 1"/>
          <p:cNvSpPr/>
          <p:nvPr/>
        </p:nvSpPr>
        <p:spPr>
          <a:xfrm>
            <a:off x="333360" y="571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Title 5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45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DNA analysis can be used t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Solve crimes  (homicid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Identify human remains (missing persons, disaster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Determine relationship between family members (paternity, child abduction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Medical Research (genetic diseases, drug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Agriculture and Horticulture (genetically modified organism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entury Gothic"/>
              </a:rPr>
              <a:t>Animal Husbandry (genetically modified animal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708120" y="1375920"/>
            <a:ext cx="3835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We have seen detectives on TV and movies getting excited about finding hair or skin or other body cells on the crime scene. Why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Exactly the same DNA is contained in every single cell in our bodies! Have you ever wondered how that is possible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ells are capable of giving rise to a new generation of cells by undergoing DNA replication and cell division.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 We are going to study how DNA is replicated so that each new cell gets the same copy in its nucleu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8" descr=""/>
          <p:cNvPicPr/>
          <p:nvPr/>
        </p:nvPicPr>
        <p:blipFill>
          <a:blip r:embed="rId2"/>
          <a:srcRect l="6002" t="0" r="15465" b="0"/>
          <a:stretch/>
        </p:blipFill>
        <p:spPr>
          <a:xfrm>
            <a:off x="4781520" y="1535040"/>
            <a:ext cx="3113280" cy="3995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3"/>
          <a:stretch/>
        </p:blipFill>
        <p:spPr>
          <a:xfrm>
            <a:off x="7894800" y="2247840"/>
            <a:ext cx="6667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212760" y="133200"/>
            <a:ext cx="927000" cy="6578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142640" y="150840"/>
            <a:ext cx="7334280" cy="640224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omson Nelson Limited. (2003). </a:t>
            </a:r>
            <a:r>
              <a:rPr b="0" i="1" lang="en-US" sz="1400" spc="-1" strike="noStrike">
                <a:solidFill>
                  <a:srgbClr val="ffffff"/>
                </a:solidFill>
                <a:latin typeface="Century Gothic"/>
              </a:rPr>
              <a:t>Biology 12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. Toronto, Ontario: Author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textbook was the source for background information and was also used for organizing the lessons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accessexcellence.org/RC/AB/WYW/wkbooks/SFTS/activity2.php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website was used to form Activity # 1 that is used in reviewing DNA composition and structure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bio22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animation was used to explain the Meselson and Stahl Experi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sumanasinc.com/webcontent/animations/content/meselson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virtual lab was used as assessment for the Meselson and Stahl Experi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micro04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highered.mcgraw-hill.com/olc/dl/120076/bio23.sw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ese animations were used in summarizing DNA Replicatio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youtube.com/watch?v=dIZpb93NYlw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video shows the DNA replication song that was part of assessment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explorelearning.com/index.cfm?method=cResource.dspDetail&amp;ResourceID=439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gizmo was used as an assessment tool at the end of the lessons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wiley.com/college/pratt/0471393878/student/animations/dna_replication/index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s tutorial was used to clear any student misconceptions and reiterate the whole process of DNA replicatio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717120" y="1447560"/>
            <a:ext cx="79693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1: Discovery of DNA: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cientists and experiments leading to the discovery of D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2: DNA Structure: 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Chemical Composition of DNA, The Double Helix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3: DNA Replicates Semi-Conservative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eselson and Stahl Experi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4: The Process of DNA Replica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parating the DNA Strands, Building the Complementary Strands, DNA Repa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sson 5: Assessm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7443720" cy="1371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6813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 u="sng">
                <a:solidFill>
                  <a:srgbClr val="ffffff"/>
                </a:solidFill>
                <a:uFillTx/>
                <a:latin typeface="Century Gothic"/>
              </a:rPr>
              <a:t>Overall Expectation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2. investigate, through laboratory activities, the structures of cell components and their roles in processes that occur within the cell;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3. demonstrate an understanding of concepts related to molecular genetics, and how genetic modification is applied in industry and agriculture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 u="sng">
                <a:solidFill>
                  <a:srgbClr val="ffffff"/>
                </a:solidFill>
                <a:uFillTx/>
                <a:latin typeface="Century Gothic"/>
              </a:rPr>
              <a:t>Specific Expectations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2.2 analyse a simulated strand of DNA to determin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the genetic code and base pairing of DNA (e.g., determine base sequences of DNA for a protein; analyse base sequences in DNA to recognize an anomaly) [AI]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ffffff"/>
                </a:solidFill>
                <a:latin typeface="Century Gothic"/>
              </a:rPr>
              <a:t>D3.1 explain the current model of DNA replication, and describe the different repair mechanisms that can correct mistakes in DNA sequencing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27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413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2002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cientists such as Hammerling, Griffith, Hershey and Chase, Chargaff, Franklin and Wilkins, Watson and Crick conducted experiments that led to better understanding of DNA and its structure. Slides with </a:t>
            </a:r>
            <a:r>
              <a:rPr b="1" lang="en-CA" sz="3000" spc="-1" strike="noStrike">
                <a:solidFill>
                  <a:srgbClr val="ffffff"/>
                </a:solidFill>
                <a:latin typeface="Century Gothic"/>
              </a:rPr>
              <a:t>M/C questions and clickers</a:t>
            </a: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 may be used to review this information with the student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Century Gothic"/>
              </a:rPr>
              <a:t>Students complete a DNA timeline scavenger hunt 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64640" indent="-26568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dnai.org/timeline/index.htm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66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s are shown the following vide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youtube.com/watch?v=ZGHkHMoyC5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s build DNA molecules in pairs (Activity # 1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cher goes over discussion questions with the class. Any gaps in knowledge are filled and misconceptions are correct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3"/>
          <a:stretch/>
        </p:blipFill>
        <p:spPr>
          <a:xfrm>
            <a:off x="2225520" y="4083120"/>
            <a:ext cx="4924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66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34812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is semi-conservative replicatio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 you notic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ased on your knowledge of DNA structure, how do you think this occur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808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8" descr=""/>
          <p:cNvPicPr/>
          <p:nvPr/>
        </p:nvPicPr>
        <p:blipFill>
          <a:blip r:embed="rId2"/>
          <a:stretch/>
        </p:blipFill>
        <p:spPr>
          <a:xfrm>
            <a:off x="1911240" y="2490840"/>
            <a:ext cx="55911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431200" cy="14572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68912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bjective: Is DNA replication conservative, semi-conservative or dispersiv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2"/>
          <a:srcRect l="0" t="0" r="0" b="30756"/>
          <a:stretch/>
        </p:blipFill>
        <p:spPr>
          <a:xfrm>
            <a:off x="1503360" y="2449440"/>
            <a:ext cx="5608800" cy="21211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6"/>
          <p:cNvSpPr/>
          <p:nvPr/>
        </p:nvSpPr>
        <p:spPr>
          <a:xfrm>
            <a:off x="2120760" y="2065320"/>
            <a:ext cx="17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erva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691080" y="2098800"/>
            <a:ext cx="193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mi-Conserva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5595840" y="2077920"/>
            <a:ext cx="13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pers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20680" y="320760"/>
            <a:ext cx="31622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9c"/>
                </a:solidFill>
                <a:latin typeface="Century Gothic"/>
              </a:rPr>
              <a:t>Meselson and Stahl Experiment (Continued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xperiment explained using overhe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ollowing animation explaining experiment shown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highered.mcgraw-hill.com/olc/dl/120076/bio22.swf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tudents complete the virtual lab and assessed (quiz #1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sumanasinc.com/webcontent/animations/content/meselson.htm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651120" y="320400"/>
            <a:ext cx="527688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2" descr="http://www.nvo.com/jin/nss-folder/scrapbookcell/Meselson1stahl.jpg"/>
          <p:cNvPicPr/>
          <p:nvPr/>
        </p:nvPicPr>
        <p:blipFill>
          <a:blip r:embed="rId3"/>
          <a:stretch/>
        </p:blipFill>
        <p:spPr>
          <a:xfrm>
            <a:off x="3651120" y="0"/>
            <a:ext cx="527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0:12:13Z</dcterms:created>
  <dc:creator>Rebecca Lostracco</dc:creator>
  <dc:description/>
  <dc:language>en-US</dc:language>
  <cp:lastModifiedBy>Jess</cp:lastModifiedBy>
  <dcterms:modified xsi:type="dcterms:W3CDTF">2011-11-10T02:39:58Z</dcterms:modified>
  <cp:revision>135</cp:revision>
  <dc:subject/>
  <dc:title>Teaching the Concept of Protein Synthesis Rebecca Lostracco Jacqueline McCann</dc:title>
</cp:coreProperties>
</file>